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36B-C4E4-4BCB-A9B8-3EEDC714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C86-3B9E-415E-A6FC-56B432F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245-B0FD-48BD-AB27-6AEB7B73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E7F-1B0B-4D0C-A544-88748360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DC3A-997A-4EDA-A2EB-2860F095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2E31-EEF1-4BEB-9605-B230B11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CA1-E2C6-46F4-8B7F-2060F1CD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618-45E9-4F78-8032-F31B2B61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354F-30F4-4350-851B-FF3E7924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502B-4F4F-46EC-AC48-FEBA71A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2A8-9482-4E48-9A2A-0676987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FAC-2CA3-4B40-AC9C-E050357F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F785-0426-427A-AAC9-D83663A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2C5C-296E-4F18-B644-76220B3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7273-B28A-4BED-A6BA-0A2428E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A686-12A9-4F4B-A212-2DEAB082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CA83-69FE-41FB-98B3-292913A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BCA-868A-4A52-8A22-72D7564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493-F26F-4A52-A189-2A102D7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DD5-7C9C-42E6-A5E1-790F531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410-B022-46F8-95C5-873A6C1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428-CE49-47BE-84BA-3FD9918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029-DD76-4751-B544-90CA9FD1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0DB-097D-4FD4-AB43-B40395C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7FF-B239-4FE6-9FCF-EFAB22DB1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3F21-5979-42E3-9C34-2989B4A2B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AIR vs. FREE TRADE CARTO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cartoon is most comp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00"/>
                </a:solidFill>
                <a:latin typeface="Arial Black"/>
              </a:rPr>
              <a:t>Criter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es COMPELLING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normal_lapsityo_jalkapallo_eng" descr=""/>
          <p:cNvPicPr/>
          <p:nvPr/>
        </p:nvPicPr>
        <p:blipFill>
          <a:blip r:embed="rId1"/>
          <a:stretch/>
        </p:blipFill>
        <p:spPr>
          <a:xfrm>
            <a:off x="2239920" y="577800"/>
            <a:ext cx="46641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06_cartoon_want_want_want_small_over" descr=""/>
          <p:cNvPicPr/>
          <p:nvPr/>
        </p:nvPicPr>
        <p:blipFill>
          <a:blip r:embed="rId1"/>
          <a:stretch/>
        </p:blipFill>
        <p:spPr>
          <a:xfrm>
            <a:off x="1905120" y="1185840"/>
            <a:ext cx="48956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ree-trade%20cartoon" descr=""/>
          <p:cNvPicPr/>
          <p:nvPr/>
        </p:nvPicPr>
        <p:blipFill>
          <a:blip r:embed="rId1"/>
          <a:stretch/>
        </p:blipFill>
        <p:spPr>
          <a:xfrm>
            <a:off x="1066680" y="1127160"/>
            <a:ext cx="60962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5-26-Free-Trade-2" descr=""/>
          <p:cNvPicPr/>
          <p:nvPr/>
        </p:nvPicPr>
        <p:blipFill>
          <a:blip r:embed="rId1"/>
          <a:stretch/>
        </p:blipFill>
        <p:spPr>
          <a:xfrm>
            <a:off x="1143000" y="920880"/>
            <a:ext cx="6858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59:07Z</dcterms:created>
  <dc:creator>hdsb</dc:creator>
  <dc:description/>
  <dc:language>en-US</dc:language>
  <cp:lastModifiedBy>hdsb</cp:lastModifiedBy>
  <dcterms:modified xsi:type="dcterms:W3CDTF">2009-12-09T15:11:40Z</dcterms:modified>
  <cp:revision>3</cp:revision>
  <dc:subject/>
  <dc:title>FAIR TRADE CARTOONS</dc:title>
</cp:coreProperties>
</file>